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B40-7F47-453E-8CF4-2C30FCCE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13B-FA81-4A19-BB1A-3F644E20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ABF-224C-42C0-83A2-884CCC55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031-33C2-47A5-855B-7AC743B0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4991-6722-4619-9C09-D5D5CE18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BD26-43AD-4664-AA36-32591BBF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28B8-245B-4890-BC6D-6C2BBB3E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8182-101A-4783-9880-5E08E8BC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54D2-1E97-45E5-BF48-E5B7E755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DBD1-CAFA-49F6-9F18-9E3B24F0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A531-2FF4-4768-8B48-1464A9AE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1AA-5BE1-42B5-AEB1-50C80A86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49CD-4580-4206-8C69-8BA83F72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BA42-5254-4151-ADAE-2C662D6A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37ED-F677-4742-AC74-169E7F48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0BBC-2A7C-403E-A27F-BFAD106C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6D1D-FE0F-4CB8-A099-3AF4A183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D70-FDBA-493B-8EC4-A97CDFC8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784-915C-4837-B122-DC3918C9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A21-D00B-4A6E-A56A-457C1F7A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452-DD1B-461C-B0EE-6C030A47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477-5969-4704-B90A-4BF0F190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C55-D8C5-489A-884F-C1137C40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8C3-DD87-445E-A6D1-08A9192A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33333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b2b2b2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b2b2b2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969696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b2b2b2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969696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b2b2b2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6CCC-52C8-4180-8058-708031761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33333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b2b2b2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b2b2b2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969696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b2b2b2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969696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b2b2b2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94E8-16B3-4E24-BF7B-55F7E9C6A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mathacademy.com/pr/mathstore/downloadables/index.asp?CAT=recreations&amp;CID=none&amp;SC=none&amp;PID=5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. C. Esc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e it remains an open question whether [this work] pertains to the realm of mathematics or to that of art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7" descr="http://www.mathacademy.com/pr/minitext/escher/self_portrait.gif"/>
          <p:cNvPicPr/>
          <p:nvPr/>
        </p:nvPicPr>
        <p:blipFill>
          <a:blip r:embed="rId1"/>
          <a:stretch/>
        </p:blipFill>
        <p:spPr>
          <a:xfrm>
            <a:off x="3200400" y="1295280"/>
            <a:ext cx="288756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f-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t concept because of artificial intelligence’s inability to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http://www.mathacademy.com/pr/minitext/escher/drawing_hands.gif"/>
          <p:cNvPicPr/>
          <p:nvPr/>
        </p:nvPicPr>
        <p:blipFill>
          <a:blip r:embed="rId1"/>
          <a:stretch/>
        </p:blipFill>
        <p:spPr>
          <a:xfrm>
            <a:off x="2438280" y="3124080"/>
            <a:ext cx="396252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hough Escher was not trained as a mathematician, his geometric theoretical discoveries have made a tremendous impact on both the mathematic and artistic worl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dimensional shapes: sides and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tric concepts: symmetry, congr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erns: translations, reflections, ro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expression – visual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role in real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ed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convey the features of Escher’s mathematical work, many resources may be 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gram-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data of polygons and angles for t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erns such as in flooring, quilts, mosa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tessellations: manual,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ding Thought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M. C. Es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those who attempt the absurd will achieve the impossible. I think it's in my basement... let me go upstairs and check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keenly confronting the enigmas that surround us, and by considering and analysing the observations that I have made, I ended up in the domain of mathematics, Although I am absolutely without training in the exact sciences, I often seem to have more in common with mathematicians than with my fellow artis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aws of mathematics are not merely human inventions or creations. They simply 'are'; they exist quite independently of the human intellect. The most that any(one) ... can do is to find that they are there and to take cognizance of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of Esc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d 1898 to 1972 in Hol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never a good student, even in m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w to enjoy graphic art and tra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me fascinated with geometry and 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http://www-gap.dcs.st-and.ac.uk/~history/Miscellaneous/Escher/Escher_fish.jpeg"/>
          <p:cNvPicPr/>
          <p:nvPr/>
        </p:nvPicPr>
        <p:blipFill>
          <a:blip r:embed="rId1"/>
          <a:stretch/>
        </p:blipFill>
        <p:spPr>
          <a:xfrm>
            <a:off x="4800600" y="2514600"/>
            <a:ext cx="38098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fe of Esc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ed relation to math from br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stallograp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systematic approach for tiling and use of space in 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me mathematician through his discoveries in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ploiting many features of geometry, he opened new domain of mathematical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 first I had no idea at all of the possibility of systematically building up my figures. I did not know ... this was possible for someone untrained in mathematics, and especially as a result of my putting forward my own layman's theory, which forced me to think through the possibiliti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scher, 19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her’s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an with landsc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d through drawings, lithographs, and woodc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studying ideas of planes and geometry,  developed work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s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hed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hape of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gic of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f-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http://www-gap.dcs.st-and.ac.uk/~history/Miscellaneous/Escher/Escher_reptiles.jpeg"/>
          <p:cNvPicPr/>
          <p:nvPr/>
        </p:nvPicPr>
        <p:blipFill>
          <a:blip r:embed="rId1"/>
          <a:stretch/>
        </p:blipFill>
        <p:spPr>
          <a:xfrm>
            <a:off x="228600" y="2286000"/>
            <a:ext cx="403848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sel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4343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as regular divisions of a plane; closed shapes that do not overlap nor leave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ly only known for triangles, squares, and hexa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her discovered use of irregular polyg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lections, translations, and r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f three, four, or six fold 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http://www.mathacademy.com/pr/minitext/escher/alhambra.gif"/>
          <p:cNvPicPr/>
          <p:nvPr/>
        </p:nvPicPr>
        <p:blipFill>
          <a:blip r:embed="rId1"/>
          <a:stretch/>
        </p:blipFill>
        <p:spPr>
          <a:xfrm>
            <a:off x="5256360" y="2057400"/>
            <a:ext cx="2970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hed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onic solids: polyhedron with same polygonal f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ng or stellating for new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http://www.mathacademy.com/pr/minitext/escher/stars.gif"/>
          <p:cNvPicPr/>
          <p:nvPr/>
        </p:nvPicPr>
        <p:blipFill>
          <a:blip r:embed="rId1"/>
          <a:stretch/>
        </p:blipFill>
        <p:spPr>
          <a:xfrm>
            <a:off x="5029200" y="2590920"/>
            <a:ext cx="2519280" cy="3106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http://www.mathacademy.com/pr/minitext/escher/four_reg_sol.gif"/>
          <p:cNvPicPr/>
          <p:nvPr/>
        </p:nvPicPr>
        <p:blipFill>
          <a:blip r:embed="rId2"/>
          <a:stretch/>
        </p:blipFill>
        <p:spPr>
          <a:xfrm>
            <a:off x="914400" y="2590920"/>
            <a:ext cx="3352680" cy="3033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9"/>
          <p:cNvSpPr/>
          <p:nvPr/>
        </p:nvSpPr>
        <p:spPr>
          <a:xfrm>
            <a:off x="838080" y="5943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your own polyhedron: </a:t>
            </a:r>
            <a:r>
              <a:rPr b="0" lang="en-US" sz="2400" spc="-1" strike="noStrike" u="sng">
                <a:solidFill>
                  <a:srgbClr val="333333"/>
                </a:solidFill>
                <a:uFillTx/>
                <a:latin typeface="Times New Roman"/>
                <a:hlinkClick r:id="rId3"/>
              </a:rPr>
              <a:t>Platonic Soli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hape of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bolic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olo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http://www.mathacademy.com/pr/minitext/escher/mobius_strip.gif"/>
          <p:cNvPicPr/>
          <p:nvPr/>
        </p:nvPicPr>
        <p:blipFill>
          <a:blip r:embed="rId1"/>
          <a:stretch/>
        </p:blipFill>
        <p:spPr>
          <a:xfrm>
            <a:off x="6629400" y="1523880"/>
            <a:ext cx="1771560" cy="381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http://www.mathacademy.com/pr/minitext/escher/three_int_solids.gif"/>
          <p:cNvPicPr/>
          <p:nvPr/>
        </p:nvPicPr>
        <p:blipFill>
          <a:blip r:embed="rId2"/>
          <a:stretch/>
        </p:blipFill>
        <p:spPr>
          <a:xfrm>
            <a:off x="228600" y="2438280"/>
            <a:ext cx="3106800" cy="2714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http://www.mathacademy.com/pr/minitext/escher/circle_limit.gif"/>
          <p:cNvPicPr/>
          <p:nvPr/>
        </p:nvPicPr>
        <p:blipFill>
          <a:blip r:embed="rId3"/>
          <a:stretch/>
        </p:blipFill>
        <p:spPr>
          <a:xfrm>
            <a:off x="3429000" y="3200400"/>
            <a:ext cx="2870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ic of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ometry of space determines its logic, and likewise the logic of space often determines its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and shado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is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http://www.mathacademy.com/pr/minitext/escher/cube_with_ribbons.gif"/>
          <p:cNvPicPr/>
          <p:nvPr/>
        </p:nvPicPr>
        <p:blipFill>
          <a:blip r:embed="rId1"/>
          <a:stretch/>
        </p:blipFill>
        <p:spPr>
          <a:xfrm>
            <a:off x="990720" y="4114800"/>
            <a:ext cx="2438280" cy="24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http://www.mathacademy.com/pr/minitext/escher/high_and_low.gif"/>
          <p:cNvPicPr/>
          <p:nvPr/>
        </p:nvPicPr>
        <p:blipFill>
          <a:blip r:embed="rId2"/>
          <a:stretch/>
        </p:blipFill>
        <p:spPr>
          <a:xfrm>
            <a:off x="6019920" y="3124080"/>
            <a:ext cx="1473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21:30:25Z</dcterms:created>
  <dc:creator>Jessica Tybursky</dc:creator>
  <dc:description/>
  <dc:language>en-US</dc:language>
  <cp:lastModifiedBy>Jessica Tybursky</cp:lastModifiedBy>
  <dcterms:modified xsi:type="dcterms:W3CDTF">2011-09-16T13:57:48Z</dcterms:modified>
  <cp:revision>18</cp:revision>
  <dc:subject/>
  <dc:title>M.C. Escher</dc:title>
</cp:coreProperties>
</file>